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F2D-3795-4FDC-B207-FD892E30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DBA0-587C-4F0A-AEE3-5B577A3D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329-6818-47B8-BEE4-5B7FBE30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838-8920-4F20-8704-753F892F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9E6-9F72-4C1F-81A0-CE51A53F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EE06-0E59-4035-9E4C-C3EA8AC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7B6-B2DA-488C-966B-C2937A8B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21E-F0EC-47A7-AB15-E846E538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1A1-CD62-405E-9B4F-E13D1998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0B3-0B46-4F97-8248-B0CAF87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9D2-ADD7-4349-A490-C2445379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6C3-080C-4B10-A6E5-7F3823A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BE55-E0A2-44F1-BCD3-685A42388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opy of elkhorn creek scene.jpg"/>
          <p:cNvPicPr/>
          <p:nvPr/>
        </p:nvPicPr>
        <p:blipFill>
          <a:blip r:embed="rId1">
            <a:lum contrast="-2000"/>
            <a:alphaModFix amt="87000"/>
          </a:blip>
          <a:stretch/>
        </p:blipFill>
        <p:spPr>
          <a:xfrm>
            <a:off x="0" y="0"/>
            <a:ext cx="913608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152280" y="51814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KET’s Newest Instructional Media Resource in Environmental Education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1763280" y="1363680"/>
            <a:ext cx="57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Raindrops to Riv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Your Presenter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520" y="1143000"/>
            <a:ext cx="5257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r. Melinda Wil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irector of Division of Natural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ofessor, College of Education, E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elinda.wilder@eku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9-622-1476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880" y="3581280"/>
            <a:ext cx="4114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rry Moor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ET Education Consult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orth Central 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moore@ket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-800-432-095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Documents and Settings\lmoore\Local Settings\Temporary Internet Files\Content.IE5\W6CZ5M85\MCPE01923_0000[1].wmf"/>
          <p:cNvPicPr/>
          <p:nvPr/>
        </p:nvPicPr>
        <p:blipFill>
          <a:blip r:embed="rId1"/>
          <a:stretch/>
        </p:blipFill>
        <p:spPr>
          <a:xfrm>
            <a:off x="4876920" y="3801960"/>
            <a:ext cx="39621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Documents and Settings\lmoore\Local Settings\Temporary Internet Files\Content.IE5\U94KK8F1\MCj03111200000[1].wmf"/>
          <p:cNvPicPr/>
          <p:nvPr/>
        </p:nvPicPr>
        <p:blipFill>
          <a:blip r:embed="rId2"/>
          <a:stretch/>
        </p:blipFill>
        <p:spPr>
          <a:xfrm flipH="1">
            <a:off x="5748120" y="990720"/>
            <a:ext cx="3166920" cy="190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ket-b-t-75px.gif"/>
          <p:cNvPicPr/>
          <p:nvPr/>
        </p:nvPicPr>
        <p:blipFill>
          <a:blip r:embed="rId3"/>
          <a:stretch/>
        </p:blipFill>
        <p:spPr>
          <a:xfrm rot="19897800">
            <a:off x="5327640" y="4254120"/>
            <a:ext cx="105264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320" y="327672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Electronic Field Tr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to a Water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VD with two 15-minute programs  one for grades 3-5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one for Grades 6-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32767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Presented on CD-ROM and the w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D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upports content presented  in the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Electronic Field Trip to a Watershed with models of exemplary instru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8"/>
          <p:cNvSpPr/>
          <p:nvPr/>
        </p:nvSpPr>
        <p:spPr>
          <a:xfrm>
            <a:off x="0" y="2589120"/>
            <a:ext cx="9144000" cy="1800"/>
          </a:xfrm>
          <a:prstGeom prst="line">
            <a:avLst/>
          </a:prstGeom>
          <a:ln w="2232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2438280" y="50796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Raindrop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3429000" y="1182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3886200" y="120348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Riv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304920" y="25909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Components of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2209680"/>
            <a:ext cx="891540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Two 15-minute programs – one for grades 3-5 , one for Grades 6-8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The programs contai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irtual visit to a watershed, showing Kentucky rivers flowing into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larger basins and ultimately, the Gulf of Mex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pecific Kentucky geography including urban and rural setting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mountains, rivers and streams, karst, sinkholes, and wetl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llustrates the most common forms of nonpoint (nps) sour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pollution and what can be done to help elimin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some of its for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3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signed to help teachers plan and implement lessons about nonpoint source water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Var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t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Grade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unded in part by a grant from the U.S. Environmental Protection Agency under §319(h) of the Clean Water Act. Administered through the KY Division of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Documents and Settings\lmoore\Local Settings\Temporary Internet Files\Content.IE5\U94KK8F1\MCj03111200000[1].wmf"/>
          <p:cNvPicPr/>
          <p:nvPr/>
        </p:nvPicPr>
        <p:blipFill>
          <a:blip r:embed="rId1"/>
          <a:stretch/>
        </p:blipFill>
        <p:spPr>
          <a:xfrm flipH="1">
            <a:off x="6781320" y="76320"/>
            <a:ext cx="2133720" cy="1282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ers from across the state that had been involved in workshops focusing on nps water pol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Filmed classrooms demonstrating best practices in environmental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eacher inter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udent w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0" y="449568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lmoore\Local Settings\Temporary Internet Files\Content.IE5\U94KK8F1\MCj03111200000[1].wmf"/>
          <p:cNvPicPr/>
          <p:nvPr/>
        </p:nvPicPr>
        <p:blipFill>
          <a:blip r:embed="rId3"/>
          <a:stretch/>
        </p:blipFill>
        <p:spPr>
          <a:xfrm flipH="1">
            <a:off x="6629040" y="3809880"/>
            <a:ext cx="2133720" cy="1282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lmoore\Local Settings\Temporary Internet Files\Content.IE5\U94KK8F1\MCj03111200000[1].wmf"/>
          <p:cNvPicPr/>
          <p:nvPr/>
        </p:nvPicPr>
        <p:blipFill>
          <a:blip r:embed="rId4"/>
          <a:stretch/>
        </p:blipFill>
        <p:spPr>
          <a:xfrm flipH="1">
            <a:off x="4495680" y="4648320"/>
            <a:ext cx="182880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lmoore\Local Settings\Temporary Internet Files\Content.IE5\U94KK8F1\MCj03111200000[1].wmf"/>
          <p:cNvPicPr/>
          <p:nvPr/>
        </p:nvPicPr>
        <p:blipFill>
          <a:blip r:embed="rId5"/>
          <a:stretch/>
        </p:blipFill>
        <p:spPr>
          <a:xfrm flipH="1">
            <a:off x="2590920" y="4572000"/>
            <a:ext cx="1295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Calibri"/>
              </a:rPr>
              <a:t>Featu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Curr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Raindrops to Rivers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ttp://www.raindropstorivers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re Cont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Future Resour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TIP format lesson pl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acher’s guide for Electronic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Fieldtrip to a Watersh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lmoore\Local Settings\Temporary Internet Files\Content.IE5\U94KK8F1\MCAN02097_0000[1].wmf"/>
          <p:cNvPicPr/>
          <p:nvPr/>
        </p:nvPicPr>
        <p:blipFill>
          <a:blip r:embed="rId2"/>
          <a:stretch/>
        </p:blipFill>
        <p:spPr>
          <a:xfrm flipH="1">
            <a:off x="7469280" y="2209680"/>
            <a:ext cx="1674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moore</cp:lastModifiedBy>
  <dcterms:modified xsi:type="dcterms:W3CDTF">2008-09-12T17:54:30Z</dcterms:modified>
  <cp:revision>14</cp:revision>
  <dc:subject/>
  <dc:title>Slide 1</dc:title>
</cp:coreProperties>
</file>